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772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4035600" y="-360"/>
            <a:ext cx="3087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09240" y="705960"/>
            <a:ext cx="47055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-360" y="8938800"/>
            <a:ext cx="308772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035600" y="8938800"/>
            <a:ext cx="3087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87796D5-44DE-494F-A9F7-5E74B5C6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-Key words are what students will use this to look for topics/formulas/etc. when test taking and the details on it are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-Summary is one sentence the student writes after they re-read what they’ve written for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are what the student learns from the screen/lesson in Nov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-Key words are what students will use this to look for topics/formulas/etc. when test taking and the details on it are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-Summary is one sentence the student writes after they re-read what they’ve written for #1-Details.  This is really the key to the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are what the student learns from the screen/lesson in Nov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students will put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NOT copy what is on the screen word for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Articles of Confederation is mentioned 3 times so it should be in #2-Key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should contain the bullet points- and the 13 states come from colonies (most students already know this if born in USA- this builds their confidence in what they kn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- signal is the bold face words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t down what the Articles do NOT give Congress the right to do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points below NOT in bold, may be important to know/write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 extra stuff that is information for background but is not necessarily important for taking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notes from the feedback on questions if information is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rect answer is also something students may want to write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99">
                  <a:alpha val="8823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6666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0120" y="6178680"/>
            <a:ext cx="761760" cy="5270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7" name=""/>
          <p:cNvSpPr/>
          <p:nvPr/>
        </p:nvSpPr>
        <p:spPr>
          <a:xfrm>
            <a:off x="914400" y="6172200"/>
            <a:ext cx="1371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  <a:effectLst>
            <a:outerShdw dist="53966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066680" y="6324480"/>
            <a:ext cx="112716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867280"/>
            <a:ext cx="9144000" cy="838440"/>
          </a:xfrm>
          <a:prstGeom prst="rect">
            <a:avLst/>
          </a:prstGeom>
          <a:gradFill rotWithShape="0">
            <a:gsLst>
              <a:gs pos="0">
                <a:srgbClr val="000074">
                  <a:alpha val="55294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2286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6666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318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400800" y="640080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57200" y="6400800"/>
            <a:ext cx="1447920" cy="3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200400" y="6400800"/>
            <a:ext cx="1676520" cy="2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286000" y="6400800"/>
            <a:ext cx="596880" cy="19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5105520" y="6400800"/>
            <a:ext cx="1127160" cy="18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2448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514600" y="304920"/>
            <a:ext cx="441972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1676520"/>
            <a:ext cx="556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3e5c"/>
                </a:solidFill>
                <a:latin typeface="Arial"/>
              </a:rPr>
              <a:t>Note Tak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3e5c"/>
                </a:solidFill>
                <a:latin typeface="Arial"/>
              </a:rPr>
              <a:t>Made Easy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54040" y="4952880"/>
            <a:ext cx="629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This is an example of one type of note taking system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Verdana"/>
              </a:rPr>
              <a:t>The Cornell System of Note T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Developed by Dr. Walter Pauk at Cornell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Been around for more than 40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Just one of </a:t>
            </a:r>
            <a:r>
              <a:rPr b="0" lang="en-US" sz="2800" spc="-1" strike="noStrike" u="sng">
                <a:solidFill>
                  <a:srgbClr val="3e3e5c"/>
                </a:solidFill>
                <a:uFillTx/>
                <a:latin typeface="Verdana"/>
              </a:rPr>
              <a:t>many</a:t>
            </a: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 note tak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Seems to be a good fit for students working in NovaNET</a:t>
            </a:r>
            <a:r>
              <a:rPr b="0" lang="en-US" sz="2800" spc="-1" strike="noStrike" baseline="30000">
                <a:solidFill>
                  <a:srgbClr val="3e3e5c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47920" y="1219320"/>
            <a:ext cx="3657600" cy="4647960"/>
            <a:chOff x="1447920" y="1219320"/>
            <a:chExt cx="3657600" cy="4647960"/>
          </a:xfrm>
        </p:grpSpPr>
        <p:grpSp>
          <p:nvGrpSpPr>
            <p:cNvPr id="125" name=""/>
            <p:cNvGrpSpPr/>
            <p:nvPr/>
          </p:nvGrpSpPr>
          <p:grpSpPr>
            <a:xfrm>
              <a:off x="1447920" y="1219320"/>
              <a:ext cx="3657600" cy="4647960"/>
              <a:chOff x="1447920" y="1219320"/>
              <a:chExt cx="3657600" cy="4647960"/>
            </a:xfrm>
          </p:grpSpPr>
          <p:sp>
            <p:nvSpPr>
              <p:cNvPr id="126" name=""/>
              <p:cNvSpPr/>
              <p:nvPr/>
            </p:nvSpPr>
            <p:spPr>
              <a:xfrm>
                <a:off x="1447920" y="1219320"/>
                <a:ext cx="3657600" cy="4647960"/>
              </a:xfrm>
              <a:prstGeom prst="rect">
                <a:avLst/>
              </a:prstGeom>
              <a:solidFill>
                <a:srgbClr val="60597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76520" y="1904760"/>
                <a:ext cx="76320" cy="1522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76520" y="3352680"/>
                <a:ext cx="76320" cy="15192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4952880"/>
                <a:ext cx="76320" cy="15192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43200" y="1219320"/>
                <a:ext cx="0" cy="396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47920" y="5181480"/>
              <a:ext cx="3657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33720" y="18288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981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1337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286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133720"/>
            <a:ext cx="2209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Ke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1143000"/>
            <a:ext cx="0" cy="464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343040" y="2209320"/>
            <a:ext cx="16765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240" y="3124080"/>
            <a:ext cx="3505320" cy="3812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91120" y="4114800"/>
            <a:ext cx="18288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The Cornell System is easy as 1-2-3</a:t>
            </a:r>
            <a:endParaRPr b="1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04920" y="1752480"/>
            <a:ext cx="1295280" cy="2286000"/>
            <a:chOff x="304920" y="1752480"/>
            <a:chExt cx="1295280" cy="2286000"/>
          </a:xfrm>
        </p:grpSpPr>
        <p:grpSp>
          <p:nvGrpSpPr>
            <p:cNvPr id="146" name=""/>
            <p:cNvGrpSpPr/>
            <p:nvPr/>
          </p:nvGrpSpPr>
          <p:grpSpPr>
            <a:xfrm>
              <a:off x="304920" y="1752480"/>
              <a:ext cx="1295280" cy="2286000"/>
              <a:chOff x="304920" y="1752480"/>
              <a:chExt cx="1295280" cy="2286000"/>
            </a:xfrm>
          </p:grpSpPr>
          <p:sp>
            <p:nvSpPr>
              <p:cNvPr id="147" name=""/>
              <p:cNvSpPr/>
              <p:nvPr/>
            </p:nvSpPr>
            <p:spPr>
              <a:xfrm>
                <a:off x="304920" y="1752480"/>
                <a:ext cx="1295280" cy="2286000"/>
              </a:xfrm>
              <a:prstGeom prst="rect">
                <a:avLst/>
              </a:prstGeom>
              <a:solidFill>
                <a:srgbClr val="60597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5560" y="208944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5560" y="280188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5560" y="358884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63560" y="1752480"/>
                <a:ext cx="0" cy="19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04920" y="3701160"/>
              <a:ext cx="129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133720" y="18288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981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1337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86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1600200"/>
            <a:ext cx="640080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Details – This is where students write information from the lesson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Key Words – This is where students write words to look up, formula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Summary – This is where students write a one sentence summary of what’s on the page in the details sectio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143000"/>
            <a:ext cx="0" cy="464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2640" y="1905120"/>
            <a:ext cx="1143000" cy="3808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120" y="2895480"/>
            <a:ext cx="167652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90720" y="380988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The Cornell System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218880" y="5396040"/>
            <a:ext cx="86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ometimes 2 &amp; 3 become blurred to students.  That’s fine if they do 3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17524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NovaNET</a:t>
            </a:r>
            <a:r>
              <a:rPr b="0" lang="en-US" sz="4000" spc="-1" strike="noStrike" baseline="5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 lessons help teachers coach students in effective note taking skil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Notebooks and Note T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guidelines of grading notebooks to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op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very p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udents write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, course title, lesson 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notes from NovaNET</a:t>
            </a:r>
            <a:r>
              <a:rPr b="0" lang="en-US" sz="1600" spc="-1" strike="noStrike" baseline="6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ssons may be written in the 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ages must be left in the 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s must remain in the classroom/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ading the Student Notebook/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a weekly score recorded in the co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with 100 points (weekly) and deduct 5 points for each of the following occurrence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in the notebook not related to les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ring out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ing the notebook out of class/lab without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taking notes while signed in and working on lessons for each day that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all weeks together for one sc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may be part of the grade for the cred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rebuchet MS"/>
              </a:rPr>
              <a:t>Teaching students to take notes</a:t>
            </a:r>
            <a:endParaRPr b="1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Read the introduction – What are the objectives for this less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Pay attention to boldface, headings, and subhead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Pay attention to graphics - charts, maps, diagram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Look for </a:t>
            </a:r>
            <a:r>
              <a:rPr b="1" lang="en-US" sz="2400" spc="-1" strike="noStrike">
                <a:solidFill>
                  <a:srgbClr val="3e3e5c"/>
                </a:solidFill>
                <a:latin typeface="Verdana"/>
              </a:rPr>
              <a:t>big</a:t>
            </a: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 signals that say </a:t>
            </a:r>
            <a:r>
              <a:rPr b="0" lang="en-US" sz="2400" spc="-1" strike="noStrike" u="sng">
                <a:solidFill>
                  <a:srgbClr val="3e3e5c"/>
                </a:solidFill>
                <a:uFillTx/>
                <a:latin typeface="Verdana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e5c"/>
                </a:solidFill>
                <a:latin typeface="Verdana"/>
              </a:rPr>
              <a:t>ital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5c"/>
                </a:solidFill>
                <a:latin typeface="Verdana"/>
              </a:rPr>
              <a:t>bold face 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chapter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end-of-lesson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rebuchet MS"/>
              </a:rPr>
              <a:t>The most difficult skill to teach</a:t>
            </a:r>
            <a:endParaRPr b="1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gnize what is NOT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everything is of equ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n’t just copy the screen into the no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44197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e3e5c"/>
                </a:solidFill>
                <a:latin typeface="Arial"/>
              </a:rPr>
              <a:t>Guided Practice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76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NovaNET</a:t>
            </a:r>
            <a:r>
              <a:rPr b="0" lang="en-US" sz="2800" spc="-1" strike="noStrike" baseline="5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 lessons help students take notes they can use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3438" b="26042"/>
          <a:stretch/>
        </p:blipFill>
        <p:spPr>
          <a:xfrm>
            <a:off x="533520" y="485640"/>
            <a:ext cx="8001000" cy="5797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95320" y="1371600"/>
            <a:ext cx="517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rticles of Confederation is mentio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hree times in this lesson.  KEY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85840" y="2057400"/>
            <a:ext cx="30492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962160" y="2057400"/>
            <a:ext cx="106668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09720" y="2133720"/>
            <a:ext cx="22860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you have students wh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take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n’t take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’t find their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notes but can’t use them due to illegibility or disorganiz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2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2819520"/>
            <a:ext cx="2438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lude formu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the KEY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Details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42480" y="3987720"/>
            <a:ext cx="332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Bullet points are good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include in DETAIL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no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48480" y="4340160"/>
            <a:ext cx="3146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gnal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LD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 f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ord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Jot down what is N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24720" y="4419720"/>
            <a:ext cx="43124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his page has extra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but not anything for no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685800" y="457200"/>
            <a:ext cx="7772400" cy="560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24040" y="4521240"/>
            <a:ext cx="40579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ake notes on answers with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less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20800" y="3668760"/>
            <a:ext cx="24026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ke notes on h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feed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962520" y="3048120"/>
            <a:ext cx="13716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1905120"/>
            <a:ext cx="84582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Teach and model </a:t>
            </a:r>
            <a:r>
              <a:rPr b="1" lang="en-US" sz="2700" spc="-1" strike="noStrike" u="sng">
                <a:solidFill>
                  <a:srgbClr val="3e3e5c"/>
                </a:solidFill>
                <a:uFillTx/>
                <a:latin typeface="Arial"/>
              </a:rPr>
              <a:t>effective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note taking skills </a:t>
            </a:r>
            <a:r>
              <a:rPr b="1" i="1" lang="en-US" sz="2700" spc="-1" strike="noStrike">
                <a:solidFill>
                  <a:srgbClr val="3e3e5c"/>
                </a:solidFill>
                <a:latin typeface="Arial"/>
              </a:rPr>
              <a:t>and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include note taking results in </a:t>
            </a:r>
            <a:r>
              <a:rPr b="1" lang="en-US" sz="2700" spc="-1" strike="noStrike" u="sng">
                <a:solidFill>
                  <a:srgbClr val="3e3e5c"/>
                </a:solidFill>
                <a:uFillTx/>
                <a:latin typeface="Arial"/>
              </a:rPr>
              <a:t>grades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for cours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This will have a significant impact on student success in NovaNET</a:t>
            </a:r>
            <a:r>
              <a:rPr b="1" lang="en-US" sz="1600" spc="-1" strike="noStrike" baseline="6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is note taking important for stud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o retain what is lea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in post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ransfer what they’ve learned for other cour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o organize their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9810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e3e5c"/>
                </a:solidFill>
                <a:uFillTx/>
                <a:latin typeface="Arial"/>
              </a:rPr>
              <a:t>Good</a:t>
            </a: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 note taking saves time and effort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17524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Common student excuses for NOT taking notes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have a photographic mem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ll “up her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’ve never needed notes bef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’t find my notes when I need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s haven’t helped me y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1905120"/>
            <a:ext cx="556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Why do students “lose” their note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students attempt to take no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want to comply with teacher expectations, bu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notes have little or no meaning to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don’t know how to organize their thoughts into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don’t see the value in taking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81080" y="1828800"/>
            <a:ext cx="49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The Cornell System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Note Tak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46483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s is one of many note tak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20:35:55Z</dcterms:created>
  <dc:creator>Educational Consultant</dc:creator>
  <dc:description/>
  <dc:language>en-US</dc:language>
  <cp:lastModifiedBy>critzius</cp:lastModifiedBy>
  <dcterms:modified xsi:type="dcterms:W3CDTF">2009-09-24T14:05:42Z</dcterms:modified>
  <cp:revision>267</cp:revision>
  <dc:subject/>
  <dc:title>NovaNET &amp; Note Taking</dc:title>
</cp:coreProperties>
</file>